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B64-953B-4632-932B-133A3122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63E-63B9-4B5A-8480-1ED632D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79A-56EF-4B83-B3A9-50082D36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0F9-5DBB-4A87-92BD-3929DC10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E225-A546-4670-9419-6BFA40DF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E0DC-9092-4305-A4F3-64958F13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21D2-F4A4-4DB1-A1C7-D0ABE17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2A03-9F9A-496B-B6F2-E61FE95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B842-818A-4B75-8FD7-5B2F7E1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A881-BFBE-4A65-B877-08BB1770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1489-8B3B-48C3-95C9-8908204D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D8F-E08D-4A8D-95E9-E24FBD4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743-0740-4C18-822C-8C809A33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DBEE-6F7F-48EA-9039-03C3273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5DE-A782-4945-97C0-BA3E5D6B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7FB-7346-4270-A607-D80715E0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F019-F900-4886-8F23-DE99FCD5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2A2-D3C2-487B-A06D-1B7964AF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A17-431E-4052-B792-E8E2BB5E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173-8D52-4A98-82AB-3DEFBE7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766-48C8-449D-921C-36D30240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1A3-6704-4785-B4FB-4E7841F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750-DEB0-491D-8B90-0BF5965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330-B500-4B41-A575-1E647D8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3C0F-8EC5-477E-89B7-0FDE325C951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000C-6B3F-42FA-AAEC-8941CA3C333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Snap ITC"/>
              </a:rPr>
              <a:t>CULTURAS PREHISPÁNICAS DEL PERÚ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Snap ITC"/>
              </a:rPr>
              <a:t>CAJAMARC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80000" y="5373360"/>
            <a:ext cx="446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Elizabeth Espin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0000002cbb"/>
          <p:cNvPicPr/>
          <p:nvPr/>
        </p:nvPicPr>
        <p:blipFill>
          <a:blip r:embed="rId1"/>
          <a:stretch/>
        </p:blipFill>
        <p:spPr>
          <a:xfrm>
            <a:off x="1332000" y="4365720"/>
            <a:ext cx="1695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Centro: departamento de Cajamarca (Sierra N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cajama2"/>
          <p:cNvPicPr/>
          <p:nvPr/>
        </p:nvPicPr>
        <p:blipFill>
          <a:blip r:embed="rId1"/>
          <a:stretch/>
        </p:blipFill>
        <p:spPr>
          <a:xfrm>
            <a:off x="4572000" y="1557360"/>
            <a:ext cx="37879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istieron al mismo tiempo que: Chimú, Chachapoyas, Chincha, Reinos Aymaras, Chancas y Reino del Cuz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Mapa"/>
          <p:cNvPicPr/>
          <p:nvPr/>
        </p:nvPicPr>
        <p:blipFill>
          <a:blip r:embed="rId1"/>
          <a:stretch/>
        </p:blipFill>
        <p:spPr>
          <a:xfrm>
            <a:off x="4643280" y="1557360"/>
            <a:ext cx="3969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hachapoyas"/>
          <p:cNvPicPr/>
          <p:nvPr/>
        </p:nvPicPr>
        <p:blipFill>
          <a:blip r:embed="rId1"/>
          <a:stretch/>
        </p:blipFill>
        <p:spPr>
          <a:xfrm>
            <a:off x="1116000" y="2043000"/>
            <a:ext cx="3449520" cy="258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5-01"/>
          <p:cNvPicPr/>
          <p:nvPr/>
        </p:nvPicPr>
        <p:blipFill>
          <a:blip r:embed="rId2"/>
          <a:stretch/>
        </p:blipFill>
        <p:spPr>
          <a:xfrm>
            <a:off x="1258920" y="4653000"/>
            <a:ext cx="3097080" cy="173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_0119+-+II"/>
          <p:cNvPicPr/>
          <p:nvPr/>
        </p:nvPicPr>
        <p:blipFill>
          <a:blip r:embed="rId3"/>
          <a:stretch/>
        </p:blipFill>
        <p:spPr>
          <a:xfrm>
            <a:off x="5286240" y="2205000"/>
            <a:ext cx="2741760" cy="3276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 flipV="1" rot="10800000">
            <a:off x="1116000" y="46944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lianza con Chimú y Chachapoyas vs. Inc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Cerámica Cajamar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erámica típica: vasij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rípode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(= tres pa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0000002cb"/>
          <p:cNvPicPr/>
          <p:nvPr/>
        </p:nvPicPr>
        <p:blipFill>
          <a:blip r:embed="rId1"/>
          <a:stretch/>
        </p:blipFill>
        <p:spPr>
          <a:xfrm>
            <a:off x="5148360" y="1989000"/>
            <a:ext cx="2879640" cy="2516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00000095"/>
          <p:cNvPicPr/>
          <p:nvPr/>
        </p:nvPicPr>
        <p:blipFill>
          <a:blip r:embed="rId2"/>
          <a:stretch/>
        </p:blipFill>
        <p:spPr>
          <a:xfrm>
            <a:off x="684360" y="3213000"/>
            <a:ext cx="3097080" cy="2081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cajama1a"/>
          <p:cNvPicPr/>
          <p:nvPr/>
        </p:nvPicPr>
        <p:blipFill>
          <a:blip r:embed="rId3"/>
          <a:stretch/>
        </p:blipFill>
        <p:spPr>
          <a:xfrm>
            <a:off x="3780000" y="4508640"/>
            <a:ext cx="18381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rte funer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Ventanilla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(= nichos excavados en la roca, servían como tumbas colectivas). Las más famosas: Otuzco y Comba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cajamarca"/>
          <p:cNvPicPr/>
          <p:nvPr/>
        </p:nvPicPr>
        <p:blipFill>
          <a:blip r:embed="rId1"/>
          <a:stretch/>
        </p:blipFill>
        <p:spPr>
          <a:xfrm>
            <a:off x="3348000" y="3068640"/>
            <a:ext cx="475308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ajamarca_sm"/>
          <p:cNvPicPr/>
          <p:nvPr/>
        </p:nvPicPr>
        <p:blipFill>
          <a:blip r:embed="rId2"/>
          <a:stretch/>
        </p:blipFill>
        <p:spPr>
          <a:xfrm>
            <a:off x="1116000" y="321300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ajamarca1_sm"/>
          <p:cNvPicPr/>
          <p:nvPr/>
        </p:nvPicPr>
        <p:blipFill>
          <a:blip r:embed="rId3"/>
          <a:stretch/>
        </p:blipFill>
        <p:spPr>
          <a:xfrm>
            <a:off x="1332000" y="4437000"/>
            <a:ext cx="1512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Religión / Comunicación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47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Dios principal =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ATEQU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(dios del ray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Idioma =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u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cajama02"/>
          <p:cNvPicPr/>
          <p:nvPr/>
        </p:nvPicPr>
        <p:blipFill>
          <a:blip r:embed="rId1"/>
          <a:stretch/>
        </p:blipFill>
        <p:spPr>
          <a:xfrm>
            <a:off x="1055520" y="2349360"/>
            <a:ext cx="309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2:43:30Z</dcterms:created>
  <dc:creator>Beautiful Lia</dc:creator>
  <dc:description/>
  <dc:language>en-US</dc:language>
  <cp:lastModifiedBy>Computo</cp:lastModifiedBy>
  <dcterms:modified xsi:type="dcterms:W3CDTF">2009-11-16T22:18:15Z</dcterms:modified>
  <cp:revision>18</cp:revision>
  <dc:subject/>
  <dc:title>CULTURAS PREHISPÁNICAS DEL PERÚ  CAJAMARCA</dc:title>
</cp:coreProperties>
</file>